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C22-FAD8-424F-9580-54E074BA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19A-7DED-41BB-80E3-728DADE3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B71AF-5130-4AE9-9E9F-2DAC7E8A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0F424-ED72-45AD-826D-0FCA11A1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6CE5C-2C31-4EAB-83C8-0D16F534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8521E-48EA-439E-A043-27132F2C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318B2-02EA-4E4F-920A-70B614BA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60D4D-061E-4DDC-9841-77E7AD4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5C95C-5FD2-4E9A-B7F6-4B46294E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0A2A1-987A-4465-93AF-1211A290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93FB1-AB16-40EB-9F4B-B6FF0634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3D5F2-57EC-4D61-B9F0-80064CDA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8DC-FA47-4B16-94F1-10730889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1D026-B6D1-4A19-8CE3-401A698A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1D0AC-B39F-48FE-A160-0DC3D387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7942E-2928-4A1B-A514-0DC7F8FE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643F1-61FB-4733-8F39-D1913C2E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30DEC-C0C0-4F98-BD23-24946EA5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E55B8-E43B-41A8-A62B-8ADFE41D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2AB62-0D09-423D-8DCF-E4F7CAA1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A452D-1287-4202-8D57-CA91D34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61B4F-092D-48DE-88E5-52935656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7E1CF-5DBD-41DC-B424-E2F2EAD0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1EC-8E01-46EE-AC1F-DA8BE7B7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188C7-E6ED-4DC6-B3DB-48B329DE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7D65B-3437-4045-93CF-E7293647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EEFE5-4C64-4C7E-A11D-851533F2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4BAEA-9FA9-43B2-B729-EF575BA3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56B8D-6F6A-463A-A854-B03D64C5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C4ED4-5E5B-40C5-BD74-FC2618CA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506FD-E4C5-449A-B0A1-16F66496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C7C38-3DFF-4D9E-8F31-12795B37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A7312-684A-40FE-8D26-934DCDC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65D53-9622-4840-A3CB-27722373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DD4A-FACE-4DA2-8442-A65151C4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BC598-85F6-407B-B1AA-13EC4444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0D6FA-2E8C-48D4-948C-E1978519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2376D-94A7-4B03-AB31-6E2192EF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6D7EE-B90C-4885-966D-57F9BB5E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18EEE-D342-491C-9197-F89BF0EE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5FD88-1567-44C3-9E04-9B6C9410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B84FE-79F6-4C87-9A3B-ABB8BFC8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EBA71-B2B3-4A56-86D8-21364114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F7FA7-4B58-4365-B035-17570BB0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8B91B-D62F-445F-9F36-76B91FB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F38C-D5EE-49F7-9EE6-BEFA382B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20E18-3899-4D55-8A3C-24159230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7692C-658F-44D5-89B7-956DD92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0E117-7462-45D3-8387-2524E739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75FFD-F778-4393-AF9C-9C0DF687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820A1-95F2-4911-AFA9-E60C4288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EAE3-9113-41A8-8783-F0A01EFA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E443-76A8-4617-A7DA-2E911DCA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9D35-752C-4E49-BE3D-C9E3C390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6BB7-A7C0-4103-9FB9-AE49C2FB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A4A6-0B5B-46DD-9E53-480ACD6E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596-4E7B-4284-9D3A-76ECFA6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2E69-623F-4D80-962F-F15ACD0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4DC1-589B-413D-9E80-46FCB2D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106A-9EA1-4802-A6FC-C4948555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38C6-F1C7-4CA5-8888-BEFBCFDD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3DF0-3D78-4851-9FCA-E593E75F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123B-E11F-4262-A20C-C1E571C9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E63D-D8E2-49FA-9DAA-3DBA3F89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9058-05DD-444E-A5A9-6346C29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C275-3CE1-4AD1-99E6-FE4B275D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7952-AC98-464B-9CAB-0B3F6F1E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6D8-8A02-4DC4-AA38-4B37FE69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B9F6-36C2-4F55-86BD-8C860F3B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A871-1840-4E79-B7D6-91DD2E7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B8F9-6BC8-44A0-B191-2B47FA07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1A11-5D1D-4458-ABFA-B9F14444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2028-F1CD-4872-AA82-CFC9D6E1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2172-10F6-4CB0-A0FE-1A73B816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98F4-4931-4DCA-B827-78DE048A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A8F6-7426-4813-9A86-0CAC1617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6731-8B20-488E-AFAD-4C9B2C3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DABF3-3485-4726-A0F7-CBD9DFF2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8B8-168D-49A6-BF41-789064A2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59FD-A66D-4E9A-8EF1-E4DE6739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926A-5EC0-4889-B7CE-A5329BEE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7EF2-1C77-49C9-989D-78AB7AA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1145-34EA-4DA8-B4BC-418B43C1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ABB3-7F67-4B9A-947F-77632D32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72B4-0C14-41ED-9EAA-0DB41393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81C4-BADB-4765-813F-64A4367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F4D77-585A-480E-A62A-A4BD7B44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E0DF-E7DC-4471-981F-BACC41EA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F478-B94D-4A0C-A20F-CF07A407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EF6-AB32-4304-A843-74EE9F0B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4647-267D-470F-9E06-671E0CCA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76921-4691-49EA-AA94-41B1465A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A5716-1DB6-4E29-AF1D-7BCE31C1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0FF4-5CD6-4E26-9D8F-5D2ED9C7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EAA49-18C1-47BC-9CBD-854DA7DC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CE56F-918E-4579-9313-1654AECF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1183-32EA-4FCB-BC58-243D8BB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0BC6F-D87E-420F-973F-7BDCD99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44A3-4903-4749-A88B-F91B3436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B590-D869-495C-91C6-141313C8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C7B-1BC8-4CB0-A9A9-1D3E054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BF2A7-74A8-4F14-BB31-DC04D536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E47D3-2D10-4EA3-94D5-4D8BEB7C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94F0A-0D81-4F57-B219-E125A298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668F8-793D-43A8-9795-59A52199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7196D-6C86-44A7-8068-A0FF01FC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1502F-2621-4E93-A1D6-0B9A5C70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35B2D-0F05-4CD2-B4BD-B1AF9F54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1F5C-DE20-4B9B-9046-CD235BB1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5DFDE-ED25-4E1C-A5E0-3F55D6A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1C85-37D3-4503-A3B7-9C287C2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0EF-E541-44EE-AC9C-89B3C2C8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EAE54-6D57-4838-BC42-883FD087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6A7BE-ECEF-4935-80D5-427FB594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6D443-C5AB-4A70-86B8-EBDC3B44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4857F-782F-42C3-B6A1-67505816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465B-AF24-40D7-9DD7-99D03EE4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11F8A-85BB-4E43-A5E3-94C76491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F1626-EC51-4F53-8B8F-0FAAF478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C5531-CA6A-417D-B216-4081E058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FD4DA-F2AB-4A42-BA0D-6E594A67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A7B3-14C8-4CBB-B1EB-E692C282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389-FA44-4A8F-9FF5-6D5FD63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7D05-8DCB-4F4E-8A12-BCD72644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24590-0513-48B4-84CE-149D3F3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83B5-3AE5-4F7D-B502-74CAB248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69D9C-1153-490E-96E1-9B47D243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4B2B2-4E82-4AD7-8A5A-8D62C5F1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FC9B-CA88-4659-AD5C-BAB00A85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BC6BB-AC9F-4569-977F-C05ECC09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8DD39-BD43-43D8-ABF8-7D787064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7C63-A54E-4D17-A7A1-AAF9A6CE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D5092-60C6-4DD7-8D4E-934328A5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B85-4951-417A-A0AB-38F274A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D3476-CEC1-41F4-944D-D33BB63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17E2C-9EE2-41F4-89FB-3DB2B0B1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A5EC5-378E-49D1-9880-E4D6CA18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F717D-549C-499F-8051-2751F2A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49207-3AED-43A0-985A-5A5DFF29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2970F-03CD-4AFA-A278-1D42EF36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0675B-682C-4AF5-9C26-F424BA50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535EE-6186-4462-9189-2823ACAC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4AF6D-7805-4F5A-BB69-B88986D6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09510-53E7-48CB-A297-BAE66D16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75D7-C2F8-4710-B850-BABF92B760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B60E-305D-4BEB-90BE-C7CAF97A9B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0712-F7BE-4B48-A064-E6AC913AFF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FC28-D5DE-425F-A71C-533C890204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42E7-7E69-4918-B31C-EDF5B0B346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5775-64BB-43BB-9D91-158745137F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8544-7E34-414C-BAB0-0C7ECB0BCA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F7B5-1BC5-44FB-8CCD-3E466978AF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CDB1-779B-4F24-9D1C-53798C9427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6C48-E508-42B6-AF39-5A6C25F009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908F-9999-4CD0-9C6F-9886665E08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B74A-E2BB-42B4-8528-6AF5369237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7 Má Pán Ježiš, má mňa rá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ísme svätom dal to zn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ateľom on detí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ými s láskou bdi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ísme svätom dal to zn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mňa má, to dobre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e, keď ochori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Lekár láska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skoro ma uzdra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ísme svätom dal to zn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mňa má, je Pastier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mňa nespustí zrak svo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mu verný zostan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ý život dosta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ísme svätom dal to znať.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51:51Z</dcterms:modified>
  <cp:revision>80</cp:revision>
  <dc:subject/>
  <dc:title>Je veľký náš Pán, on slávy je Kráľ Nech do všetkých strán  spev vrúcnych znie chvál.</dc:title>
</cp:coreProperties>
</file>